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33.png" ContentType="image/png"/>
  <Override PartName="/ppt/media/image15.png" ContentType="image/png"/>
  <Override PartName="/ppt/media/image3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png" ContentType="image/png"/>
  <Override PartName="/ppt/media/image23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19460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14040" y="3611160"/>
            <a:ext cx="719460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0800" y="137124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040" y="361116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00800" y="361116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231624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46560" y="1371240"/>
            <a:ext cx="231624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79080" y="1371240"/>
            <a:ext cx="231624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14040" y="3611160"/>
            <a:ext cx="231624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46560" y="3611160"/>
            <a:ext cx="231624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79080" y="3611160"/>
            <a:ext cx="231624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14040" y="1371240"/>
            <a:ext cx="7194600" cy="42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19460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51072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00800" y="1371240"/>
            <a:ext cx="351072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47640" y="153720"/>
            <a:ext cx="8190000" cy="39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00800" y="1371240"/>
            <a:ext cx="351072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14040" y="361116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51072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0800" y="137124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00800" y="361116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0800" y="137124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040" y="3611160"/>
            <a:ext cx="719460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990720"/>
            <a:ext cx="7569000" cy="52290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9094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371240"/>
            <a:ext cx="719460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26080" indent="-22608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559080" indent="-24012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651960">
              <a:lnSpc>
                <a:spcPct val="120000"/>
              </a:lnSpc>
              <a:spcBef>
                <a:spcPts val="21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3" marL="744120">
              <a:lnSpc>
                <a:spcPct val="120000"/>
              </a:lnSpc>
              <a:spcBef>
                <a:spcPts val="21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4" marL="837000">
              <a:lnSpc>
                <a:spcPct val="120000"/>
              </a:lnSpc>
              <a:spcBef>
                <a:spcPts val="21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5" marL="837000">
              <a:lnSpc>
                <a:spcPct val="120000"/>
              </a:lnSpc>
              <a:spcBef>
                <a:spcPts val="21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6" marL="837000">
              <a:lnSpc>
                <a:spcPct val="120000"/>
              </a:lnSpc>
              <a:spcBef>
                <a:spcPts val="21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13.xml"/><Relationship Id="rId5" Type="http://schemas.openxmlformats.org/officeDocument/2006/relationships/slide" Target="slide13.xml"/><Relationship Id="rId6" Type="http://schemas.openxmlformats.org/officeDocument/2006/relationships/slide" Target="slide26.xml"/><Relationship Id="rId7" Type="http://schemas.openxmlformats.org/officeDocument/2006/relationships/slide" Target="slide26.xml"/><Relationship Id="rId8" Type="http://schemas.openxmlformats.org/officeDocument/2006/relationships/slide" Target="slide49.xml"/><Relationship Id="rId9" Type="http://schemas.openxmlformats.org/officeDocument/2006/relationships/slide" Target="slide49.xml"/><Relationship Id="rId10" Type="http://schemas.openxmlformats.org/officeDocument/2006/relationships/slide" Target="slide60.xml"/><Relationship Id="rId11" Type="http://schemas.openxmlformats.org/officeDocument/2006/relationships/slide" Target="slide60.xml"/><Relationship Id="rId12" Type="http://schemas.openxmlformats.org/officeDocument/2006/relationships/slide" Target="slide79.xml"/><Relationship Id="rId13" Type="http://schemas.openxmlformats.org/officeDocument/2006/relationships/slide" Target="slide79.xml"/><Relationship Id="rId14" Type="http://schemas.openxmlformats.org/officeDocument/2006/relationships/slide" Target="slide90.xml"/><Relationship Id="rId15" Type="http://schemas.openxmlformats.org/officeDocument/2006/relationships/slide" Target="slide90.xml"/><Relationship Id="rId1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16.xml"/><Relationship Id="rId4" Type="http://schemas.openxmlformats.org/officeDocument/2006/relationships/slide" Target="slide16.xml"/><Relationship Id="rId5" Type="http://schemas.openxmlformats.org/officeDocument/2006/relationships/slide" Target="slide17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19.xml"/><Relationship Id="rId9" Type="http://schemas.openxmlformats.org/officeDocument/2006/relationships/slide" Target="slide21.xml"/><Relationship Id="rId10" Type="http://schemas.openxmlformats.org/officeDocument/2006/relationships/slide" Target="slide21.xml"/><Relationship Id="rId11" Type="http://schemas.openxmlformats.org/officeDocument/2006/relationships/slide" Target="slide25.xml"/><Relationship Id="rId12" Type="http://schemas.openxmlformats.org/officeDocument/2006/relationships/slide" Target="slide25.xml"/><Relationship Id="rId13" Type="http://schemas.openxmlformats.org/officeDocument/2006/relationships/slide" Target="slide1.xml"/><Relationship Id="rId14" Type="http://schemas.openxmlformats.org/officeDocument/2006/relationships/slide" Target="slide1.xml"/><Relationship Id="rId1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7.xml"/><Relationship Id="rId3" Type="http://schemas.openxmlformats.org/officeDocument/2006/relationships/slide" Target="slide31.xml"/><Relationship Id="rId4" Type="http://schemas.openxmlformats.org/officeDocument/2006/relationships/slide" Target="slide31.xml"/><Relationship Id="rId5" Type="http://schemas.openxmlformats.org/officeDocument/2006/relationships/slide" Target="slide35.xml"/><Relationship Id="rId6" Type="http://schemas.openxmlformats.org/officeDocument/2006/relationships/slide" Target="slide35.xml"/><Relationship Id="rId7" Type="http://schemas.openxmlformats.org/officeDocument/2006/relationships/slide" Target="slide41.xml"/><Relationship Id="rId8" Type="http://schemas.openxmlformats.org/officeDocument/2006/relationships/slide" Target="slide41.xml"/><Relationship Id="rId9" Type="http://schemas.openxmlformats.org/officeDocument/2006/relationships/slide" Target="slide44.xml"/><Relationship Id="rId10" Type="http://schemas.openxmlformats.org/officeDocument/2006/relationships/slide" Target="slide44.xml"/><Relationship Id="rId11" Type="http://schemas.openxmlformats.org/officeDocument/2006/relationships/slide" Target="slide47.xml"/><Relationship Id="rId12" Type="http://schemas.openxmlformats.org/officeDocument/2006/relationships/slide" Target="slide47.xml"/><Relationship Id="rId13" Type="http://schemas.openxmlformats.org/officeDocument/2006/relationships/slide" Target="slide1.xml"/><Relationship Id="rId14" Type="http://schemas.openxmlformats.org/officeDocument/2006/relationships/slide" Target="slide1.xml"/><Relationship Id="rId1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7.xml"/><Relationship Id="rId10" Type="http://schemas.openxmlformats.org/officeDocument/2006/relationships/slide" Target="slide10.xml"/><Relationship Id="rId11" Type="http://schemas.openxmlformats.org/officeDocument/2006/relationships/slide" Target="slide10.xml"/><Relationship Id="rId12" Type="http://schemas.openxmlformats.org/officeDocument/2006/relationships/slide" Target="slide10.xml"/><Relationship Id="rId13" Type="http://schemas.openxmlformats.org/officeDocument/2006/relationships/slide" Target="slide1.xml"/><Relationship Id="rId14" Type="http://schemas.openxmlformats.org/officeDocument/2006/relationships/slide" Target="slide1.xml"/><Relationship Id="rId1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" Target="slide50.xml"/><Relationship Id="rId3" Type="http://schemas.openxmlformats.org/officeDocument/2006/relationships/slide" Target="slide53.xml"/><Relationship Id="rId4" Type="http://schemas.openxmlformats.org/officeDocument/2006/relationships/slide" Target="slide53.xml"/><Relationship Id="rId5" Type="http://schemas.openxmlformats.org/officeDocument/2006/relationships/slide" Target="slide57.xml"/><Relationship Id="rId6" Type="http://schemas.openxmlformats.org/officeDocument/2006/relationships/slide" Target="slide57.xml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" Target="slide61.xml"/><Relationship Id="rId3" Type="http://schemas.openxmlformats.org/officeDocument/2006/relationships/slide" Target="slide67.xml"/><Relationship Id="rId4" Type="http://schemas.openxmlformats.org/officeDocument/2006/relationships/slide" Target="slide67.xml"/><Relationship Id="rId5" Type="http://schemas.openxmlformats.org/officeDocument/2006/relationships/slide" Target="slide70.xml"/><Relationship Id="rId6" Type="http://schemas.openxmlformats.org/officeDocument/2006/relationships/slide" Target="slide70.xml"/><Relationship Id="rId7" Type="http://schemas.openxmlformats.org/officeDocument/2006/relationships/slide" Target="slide72.xml"/><Relationship Id="rId8" Type="http://schemas.openxmlformats.org/officeDocument/2006/relationships/slide" Target="slide72.xml"/><Relationship Id="rId9" Type="http://schemas.openxmlformats.org/officeDocument/2006/relationships/slide" Target="slide75.xml"/><Relationship Id="rId10" Type="http://schemas.openxmlformats.org/officeDocument/2006/relationships/slide" Target="slide75.xml"/><Relationship Id="rId11" Type="http://schemas.openxmlformats.org/officeDocument/2006/relationships/slide" Target="slide78.xml"/><Relationship Id="rId12" Type="http://schemas.openxmlformats.org/officeDocument/2006/relationships/slide" Target="slide78.xml"/><Relationship Id="rId13" Type="http://schemas.openxmlformats.org/officeDocument/2006/relationships/slide" Target="slide1.xml"/><Relationship Id="rId14" Type="http://schemas.openxmlformats.org/officeDocument/2006/relationships/slide" Target="slide1.xml"/><Relationship Id="rId15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slide80.xml"/><Relationship Id="rId2" Type="http://schemas.openxmlformats.org/officeDocument/2006/relationships/slide" Target="slide80.xml"/><Relationship Id="rId3" Type="http://schemas.openxmlformats.org/officeDocument/2006/relationships/slide" Target="slide82.xml"/><Relationship Id="rId4" Type="http://schemas.openxmlformats.org/officeDocument/2006/relationships/slide" Target="slide82.xml"/><Relationship Id="rId5" Type="http://schemas.openxmlformats.org/officeDocument/2006/relationships/slide" Target="slide88.xml"/><Relationship Id="rId6" Type="http://schemas.openxmlformats.org/officeDocument/2006/relationships/slide" Target="slide88.xml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slide91.xml"/><Relationship Id="rId2" Type="http://schemas.openxmlformats.org/officeDocument/2006/relationships/slide" Target="slide91.xml"/><Relationship Id="rId3" Type="http://schemas.openxmlformats.org/officeDocument/2006/relationships/slide" Target="slide93.xml"/><Relationship Id="rId4" Type="http://schemas.openxmlformats.org/officeDocument/2006/relationships/slide" Target="slide93.xml"/><Relationship Id="rId5" Type="http://schemas.openxmlformats.org/officeDocument/2006/relationships/slide" Target="slide96.xml"/><Relationship Id="rId6" Type="http://schemas.openxmlformats.org/officeDocument/2006/relationships/slide" Target="slide96.xml"/><Relationship Id="rId7" Type="http://schemas.openxmlformats.org/officeDocument/2006/relationships/slide" Target="slide98.xml"/><Relationship Id="rId8" Type="http://schemas.openxmlformats.org/officeDocument/2006/relationships/slide" Target="slide98.xml"/><Relationship Id="rId9" Type="http://schemas.openxmlformats.org/officeDocument/2006/relationships/slide" Target="slide98.xml"/><Relationship Id="rId10" Type="http://schemas.openxmlformats.org/officeDocument/2006/relationships/slide" Target="slide1.xml"/><Relationship Id="rId11" Type="http://schemas.openxmlformats.org/officeDocument/2006/relationships/slide" Target="slide1.xml"/><Relationship Id="rId12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第三章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中文处理系统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Word 2000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19460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3.1   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Word 2000 </a:t>
            </a:r>
            <a:r>
              <a:rPr b="1" lang="zh-CN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概述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3.2   </a:t>
            </a:r>
            <a:r>
              <a:rPr b="1" lang="zh-CN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文档的基本操作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3.3   </a:t>
            </a:r>
            <a:r>
              <a:rPr b="1" lang="zh-CN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文档的排版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8" action="ppaction://hlinksldjump"/>
              </a:rPr>
              <a:t>3.4   </a:t>
            </a:r>
            <a:r>
              <a:rPr b="1" lang="zh-CN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页面排版和打印文档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10" action="ppaction://hlinksldjump"/>
              </a:rPr>
              <a:t>3.5   </a:t>
            </a:r>
            <a:r>
              <a:rPr b="1" lang="zh-CN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11" action="ppaction://hlinksldjump"/>
              </a:rPr>
              <a:t>图文混排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12" action="ppaction://hlinksldjump"/>
              </a:rPr>
              <a:t>3.6   </a:t>
            </a:r>
            <a:r>
              <a:rPr b="1" lang="zh-CN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13" action="ppaction://hlinksldjump"/>
              </a:rPr>
              <a:t>表格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14" action="ppaction://hlinksldjump"/>
              </a:rPr>
              <a:t>3.7   </a:t>
            </a:r>
            <a:r>
              <a:rPr b="1" lang="zh-CN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15" action="ppaction://hlinksldjump"/>
              </a:rPr>
              <a:t>邮件合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.4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 2000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的窗口组成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19460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标题栏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菜单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工具栏          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标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文本区          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滚动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状态栏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>
            <a:hlinkClick r:id="" action="ppaction://hlinkshowjump?jump=endshow"/>
          </p:cNvPr>
          <p:cNvSpPr/>
          <p:nvPr/>
        </p:nvSpPr>
        <p:spPr>
          <a:xfrm>
            <a:off x="6958080" y="6400800"/>
            <a:ext cx="1347840" cy="3682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99"/>
                </a:solidFill>
                <a:latin typeface="Times New Roman"/>
                <a:ea typeface="宋体"/>
              </a:rPr>
              <a:t>结束放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914040" y="1371600"/>
            <a:ext cx="7194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7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Berlin Sans FB Demi"/>
              </a:rPr>
              <a:t>Thank you very much!</a:t>
            </a:r>
            <a:endParaRPr b="1" lang="en-US" sz="5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8" name=""/>
          <p:cNvSpPr/>
          <p:nvPr/>
        </p:nvSpPr>
        <p:spPr>
          <a:xfrm>
            <a:off x="2514600" y="3048120"/>
            <a:ext cx="51055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9360" indent="-279360">
              <a:lnSpc>
                <a:spcPct val="8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本章到此结束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-279360">
              <a:lnSpc>
                <a:spcPct val="8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谢谢您 的光临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714840" y="23670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0" t="0" r="65810" b="42864"/>
          <a:stretch/>
        </p:blipFill>
        <p:spPr>
          <a:xfrm>
            <a:off x="4952880" y="1828800"/>
            <a:ext cx="2286000" cy="2505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952800" y="28861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rcRect l="7603" t="9892" r="76666" b="71806"/>
          <a:stretch/>
        </p:blipFill>
        <p:spPr>
          <a:xfrm>
            <a:off x="1600200" y="2133720"/>
            <a:ext cx="2219400" cy="1946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86200" y="5181480"/>
            <a:ext cx="4267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4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打开的文件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71600" y="4800600"/>
            <a:ext cx="2666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3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控制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981160" y="21477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16646" t="15157" r="15355" b="11811"/>
          <a:stretch/>
        </p:blipFill>
        <p:spPr>
          <a:xfrm>
            <a:off x="2362320" y="1600200"/>
            <a:ext cx="3876480" cy="3122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828800" y="5334120"/>
            <a:ext cx="4648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5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添加工具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7186680" y="6400800"/>
            <a:ext cx="1347840" cy="4050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cc"/>
                </a:solidFill>
                <a:uFillTx/>
                <a:latin typeface="Times New Roman"/>
                <a:ea typeface="宋体"/>
                <a:hlinkClick r:id="rId3" action="ppaction://hlinksldjump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2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文档的基本操作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19460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1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3.2.1   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创建新文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1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3.2.2   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编辑文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1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3.2.3   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保存文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1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3.2.4   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8" action="ppaction://hlinksldjump"/>
              </a:rPr>
              <a:t>文档内容的选定、删除、移动、复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1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3.2.5   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10" action="ppaction://hlinksldjump"/>
              </a:rPr>
              <a:t>打开文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1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11" action="ppaction://hlinksldjump"/>
              </a:rPr>
              <a:t>3.2.6   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12" action="ppaction://hlinksldjump"/>
              </a:rPr>
              <a:t>显示文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">
            <a:hlinkClick r:id="rId13" action="ppaction://hlinksldjump"/>
          </p:cNvPr>
          <p:cNvSpPr/>
          <p:nvPr/>
        </p:nvSpPr>
        <p:spPr>
          <a:xfrm>
            <a:off x="7010280" y="6365880"/>
            <a:ext cx="1282680" cy="40500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cc"/>
                </a:solidFill>
                <a:uFillTx/>
                <a:latin typeface="Times New Roman"/>
                <a:ea typeface="宋体"/>
                <a:hlinkClick r:id="rId14" action="ppaction://hlinksldjump"/>
              </a:rPr>
              <a:t>返回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2.1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创建新文档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19460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单击“文件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|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新建”命令，打开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的“新建”对话框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在“新建”选项组中单击选中“文档”单选按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单击“常用”选项卡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双击列表框中的“空白文档”图标。屏幕将显示新建后的文档窗口，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786040" y="23814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4452840" cy="2612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133720" y="5181480"/>
            <a:ext cx="4419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6    “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新建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7162920" y="6172200"/>
            <a:ext cx="1576440" cy="3682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99"/>
                </a:solidFill>
                <a:latin typeface="Times New Roman"/>
                <a:ea typeface="宋体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2.2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编辑文档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新建一个空白文档后，用户就可在插入点处输入文档内容。插入点会随文档的输入而自动后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输入文档过程中，若要输入中文的标点符号，需切换到中文输入法状态下。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3" name=""/>
          <p:cNvSpPr/>
          <p:nvPr/>
        </p:nvSpPr>
        <p:spPr>
          <a:xfrm>
            <a:off x="3029040" y="25574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00200" y="3429000"/>
            <a:ext cx="4114800" cy="2209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946120" y="2895480"/>
            <a:ext cx="911880" cy="32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7 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符号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62920" y="6172200"/>
            <a:ext cx="1576440" cy="3682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99"/>
                </a:solidFill>
                <a:latin typeface="Times New Roman"/>
                <a:ea typeface="宋体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2.3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保存文档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19460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单击“文件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|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保存”命令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在“另存为”的列表框中选定保存文件的地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在“文件名”列表框中输入一个文件名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在“保存类型”列表框中选择一个保存的类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单击“保存”按钮，即可完成文档的保存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819520" y="22622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4038480" cy="2614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209680" y="4952880"/>
            <a:ext cx="4114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8 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另存为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162920" y="6172200"/>
            <a:ext cx="1576440" cy="3682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99"/>
                </a:solidFill>
                <a:latin typeface="Times New Roman"/>
                <a:ea typeface="宋体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2.4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文档内容的选定、删除、移动、复制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19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文本块的选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5" name=""/>
          <p:cNvSpPr/>
          <p:nvPr/>
        </p:nvSpPr>
        <p:spPr>
          <a:xfrm>
            <a:off x="2471760" y="23050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362320" y="2163600"/>
            <a:ext cx="4572000" cy="2446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362320" y="5181480"/>
            <a:ext cx="37335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9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定文本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本章学习目标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19460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d 200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启动与退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   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d 200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窗口组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   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d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文档的基本操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   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d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文档的排版和打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   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d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文档中图形和表格的处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7010280" y="6365880"/>
            <a:ext cx="1282680" cy="40500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cc"/>
                </a:solidFill>
                <a:uFillTx/>
                <a:latin typeface="Times New Roman"/>
                <a:ea typeface="宋体"/>
                <a:hlinkClick r:id="rId2" action="ppaction://hlinksldjump"/>
              </a:rPr>
              <a:t>返回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19460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文本的删除、复制、移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删除文本块：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let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键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kspac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键，也可从“编辑”菜单中选择“清除”或“剪切”命令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移动文本块：选定文本，单击“常用”工具栏上的“剪切”按钮，设置插入点，单击“常用”工具栏中的“粘贴”按钮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复制文本块：选定文本块，单击“常用”工具栏上的“复制”按钮，设置插入点，单击“常用”工具栏中的“粘贴”按钮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0" name=""/>
          <p:cNvSpPr/>
          <p:nvPr/>
        </p:nvSpPr>
        <p:spPr>
          <a:xfrm>
            <a:off x="6934320" y="6400800"/>
            <a:ext cx="1447560" cy="3682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99"/>
                </a:solidFill>
                <a:latin typeface="Times New Roman"/>
                <a:ea typeface="宋体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2.5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打开文档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19460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单击“文件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打开”命令（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单击“查找范围”列表框右侧的下拉按钮（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）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双击文件夹在文件列表框中将显示该文件夹的内容，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双击欲打开的文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814480" y="22766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19858" t="39665" r="26021" b="12303"/>
          <a:stretch/>
        </p:blipFill>
        <p:spPr>
          <a:xfrm>
            <a:off x="2743200" y="1981080"/>
            <a:ext cx="4038480" cy="2610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600200" y="5257800"/>
            <a:ext cx="6400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10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“打开”对话框中选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盘驱动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805120" y="21049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4510080" cy="2923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219320" y="5486400"/>
            <a:ext cx="6781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11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了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盘驱动器“后的“打开”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752560" y="22384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5410080" cy="3810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219320" y="5257800"/>
            <a:ext cx="6781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12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了“水利”目录后的“打开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6400800"/>
            <a:ext cx="1447560" cy="3682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99"/>
                </a:solidFill>
                <a:latin typeface="Times New Roman"/>
                <a:ea typeface="宋体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2.6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文档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19460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了更好地编辑和查看文档，可以选择不同的视图来显示文档：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普通视图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页面视图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版式视图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大纲视图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预览视图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打印预览视图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"/>
          <p:cNvSpPr/>
          <p:nvPr/>
        </p:nvSpPr>
        <p:spPr>
          <a:xfrm>
            <a:off x="6934320" y="6400800"/>
            <a:ext cx="1447560" cy="3682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99"/>
                </a:solidFill>
                <a:latin typeface="Times New Roman"/>
                <a:ea typeface="宋体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3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文档的排版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19460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1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3.3.1   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设置字符格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1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3.3.2   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设置段落格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1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3.3.3   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项目符号与编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1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3.3.4   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8" action="ppaction://hlinksldjump"/>
              </a:rPr>
              <a:t>分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1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3.3.5   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10" action="ppaction://hlinksldjump"/>
              </a:rPr>
              <a:t>样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1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11" action="ppaction://hlinksldjump"/>
              </a:rPr>
              <a:t>3.3.6   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12" action="ppaction://hlinksldjump"/>
              </a:rPr>
              <a:t>模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8" name="">
            <a:hlinkClick r:id="rId13" action="ppaction://hlinksldjump"/>
          </p:cNvPr>
          <p:cNvSpPr/>
          <p:nvPr/>
        </p:nvSpPr>
        <p:spPr>
          <a:xfrm>
            <a:off x="7010280" y="6365880"/>
            <a:ext cx="1282680" cy="40500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cc"/>
                </a:solidFill>
                <a:uFillTx/>
                <a:latin typeface="Times New Roman"/>
                <a:ea typeface="宋体"/>
                <a:hlinkClick r:id="rId14" action="ppaction://hlinksldjump"/>
              </a:rPr>
              <a:t>返回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3.1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设置字符格式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238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使用“字体”命令设置字符格式（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13~3.15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使用“格式”工具栏设置字符格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使用“格式刷”按钮复制字符格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"/>
          <p:cNvSpPr/>
          <p:nvPr/>
        </p:nvSpPr>
        <p:spPr>
          <a:xfrm>
            <a:off x="3338640" y="21812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819520" y="1447920"/>
            <a:ext cx="3295440" cy="3333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752480" y="5486400"/>
            <a:ext cx="6248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13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了“字体”选项卡的“字体”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438360" y="22906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352680" y="1447920"/>
            <a:ext cx="2954520" cy="2966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743200" y="4892760"/>
            <a:ext cx="44197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14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了“字符间距”选项卡的“字体”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 2000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概述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19460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3.1.1   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文字处理软件的发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3.1.2  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Word 2000 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的特点与新特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3.1.3  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Word 2000 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8" action="ppaction://hlinksldjump"/>
              </a:rPr>
              <a:t>的启动与退出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10" action="ppaction://hlinksldjump"/>
              </a:rPr>
              <a:t>3.1.4  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11" action="ppaction://hlinksldjump"/>
              </a:rPr>
              <a:t>Word 2000 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12" action="ppaction://hlinksldjump"/>
              </a:rPr>
              <a:t>的窗口组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" name="">
            <a:hlinkClick r:id="rId13" action="ppaction://hlinksldjump"/>
          </p:cNvPr>
          <p:cNvSpPr/>
          <p:nvPr/>
        </p:nvSpPr>
        <p:spPr>
          <a:xfrm>
            <a:off x="7010280" y="6365880"/>
            <a:ext cx="1282680" cy="40500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cc"/>
                </a:solidFill>
                <a:uFillTx/>
                <a:latin typeface="Times New Roman"/>
                <a:ea typeface="宋体"/>
                <a:hlinkClick r:id="rId14" action="ppaction://hlinksldjump"/>
              </a:rPr>
              <a:t>返回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576600" y="24289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8120" y="609480"/>
            <a:ext cx="2816280" cy="28288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rcRect l="1279" t="20308" r="32097" b="71579"/>
          <a:stretch/>
        </p:blipFill>
        <p:spPr>
          <a:xfrm>
            <a:off x="2286000" y="4267080"/>
            <a:ext cx="4334040" cy="4240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480360" y="762120"/>
            <a:ext cx="1095120" cy="304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.15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了“文字效果”选项卡的“字体”对话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5181480"/>
            <a:ext cx="4267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16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字符“格式”工具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86680" y="6400800"/>
            <a:ext cx="1347840" cy="3682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99"/>
                </a:solidFill>
                <a:latin typeface="Times New Roman"/>
                <a:ea typeface="宋体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3.2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设置段落格式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19460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利用“格式工具栏”以及标尺对段落进行某些格式设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利用“格式”菜单中的“段落”命令设置段落格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使用“格式刷”按钮设置段落格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124000" y="2652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066680" y="2224080"/>
            <a:ext cx="6257880" cy="19843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362320" y="4876920"/>
            <a:ext cx="3886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17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水平标尺及制表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295800" y="23763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362320" y="2133720"/>
            <a:ext cx="4171680" cy="23479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286000" y="5181480"/>
            <a:ext cx="4114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18 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制表位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238560" y="21765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90920" y="1676520"/>
            <a:ext cx="3314520" cy="3004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209680" y="5334120"/>
            <a:ext cx="4114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19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段落”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86680" y="6400800"/>
            <a:ext cx="1347840" cy="3682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99"/>
                </a:solidFill>
                <a:latin typeface="Times New Roman"/>
                <a:ea typeface="宋体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3.3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项目符号与编号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194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自动创建项目符号和编号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7" name=""/>
          <p:cNvSpPr/>
          <p:nvPr/>
        </p:nvSpPr>
        <p:spPr>
          <a:xfrm>
            <a:off x="3262320" y="21812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09680" y="2362320"/>
            <a:ext cx="3457800" cy="3294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022440" y="2133720"/>
            <a:ext cx="911880" cy="373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20 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自动更正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7194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添加项目符号或编号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2" name=""/>
          <p:cNvSpPr/>
          <p:nvPr/>
        </p:nvSpPr>
        <p:spPr>
          <a:xfrm>
            <a:off x="3452760" y="25574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4015080" cy="31273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327000" y="1219320"/>
            <a:ext cx="911880" cy="449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21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项目符号和编号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914560" y="2571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4248000" cy="2152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676520" y="5029200"/>
            <a:ext cx="5562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22 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自定义项目符号列表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952720" y="25239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981080" y="1447920"/>
            <a:ext cx="4800600" cy="2682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828800" y="4952880"/>
            <a:ext cx="5029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23 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自定义编号列表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914040" y="990360"/>
            <a:ext cx="719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多级符号列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2" name=""/>
          <p:cNvSpPr/>
          <p:nvPr/>
        </p:nvSpPr>
        <p:spPr>
          <a:xfrm>
            <a:off x="3119400" y="23050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4119480" cy="26478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905120" y="4952880"/>
            <a:ext cx="6095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24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了“多级符号”选项卡的“项目符号”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.1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文字处理软件的发展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19460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7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，由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cropr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软件公司研制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Sta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简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一个较早产生的字处理系统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9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crosof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公司推出了一种全新的图形化用户界面的操作系统—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ndows 3.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英文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crosoft Word for Window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相继诞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随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ndows 9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文版的推出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fice 9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文版同时产生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00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crosof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公司推出了操作系统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ndows 20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 200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随之产生，它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 200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基础上增加了许多全新的功能。成为目前最流行的字处理软件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">
            <a:hlinkClick r:id="rId1" action="ppaction://hlinksldjump"/>
          </p:cNvPr>
          <p:cNvSpPr/>
          <p:nvPr/>
        </p:nvSpPr>
        <p:spPr>
          <a:xfrm>
            <a:off x="7186680" y="6400800"/>
            <a:ext cx="1347840" cy="4050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cc"/>
                </a:solidFill>
                <a:uFillTx/>
                <a:latin typeface="Times New Roman"/>
                <a:ea typeface="宋体"/>
                <a:hlinkClick r:id="rId2" action="ppaction://hlinksldjump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881440" y="26859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133720" y="609480"/>
            <a:ext cx="4800600" cy="21099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752480" y="2971800"/>
            <a:ext cx="5715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25 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自定义多级符号列表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57520" y="30956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rcRect l="7581" t="44288" r="46951" b="34088"/>
          <a:stretch/>
        </p:blipFill>
        <p:spPr>
          <a:xfrm>
            <a:off x="2133720" y="3962520"/>
            <a:ext cx="4495680" cy="14763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514600" y="5638680"/>
            <a:ext cx="3733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26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级符号示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186680" y="6400800"/>
            <a:ext cx="1347840" cy="3682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99"/>
                </a:solidFill>
                <a:latin typeface="Times New Roman"/>
                <a:ea typeface="宋体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3.4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分栏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194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利用“格式”菜单下的“分栏”命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4" name=""/>
          <p:cNvSpPr/>
          <p:nvPr/>
        </p:nvSpPr>
        <p:spPr>
          <a:xfrm>
            <a:off x="3314880" y="26049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362320" y="2286000"/>
            <a:ext cx="4267080" cy="24242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666880" y="5181480"/>
            <a:ext cx="3429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27 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栏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19460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利用“其他格式”工具栏中的“分栏”按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选定要分栏的文本，单击“其他格式”工具栏上“分栏”按钮，弹出供用户选择的栏数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住鼠标左键，拖动至所需栏数后，松开鼠标左键即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7194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分节符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"/>
          <p:cNvSpPr/>
          <p:nvPr/>
        </p:nvSpPr>
        <p:spPr>
          <a:xfrm>
            <a:off x="3828960" y="27813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2743200" cy="23925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438280" y="4876920"/>
            <a:ext cx="3962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28 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隔符”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186680" y="6400800"/>
            <a:ext cx="1347840" cy="3682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99"/>
                </a:solidFill>
                <a:latin typeface="Times New Roman"/>
                <a:ea typeface="宋体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3.5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样式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19460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建立样式（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2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所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样式的应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修改和删除样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"/>
          <p:cNvSpPr/>
          <p:nvPr/>
        </p:nvSpPr>
        <p:spPr>
          <a:xfrm>
            <a:off x="3238560" y="23716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65840" y="2133720"/>
            <a:ext cx="549360" cy="358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362320" y="1066680"/>
            <a:ext cx="4343400" cy="34434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514600" y="5410080"/>
            <a:ext cx="3962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29 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样式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533760" y="24289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133720" y="1219320"/>
            <a:ext cx="4724280" cy="32097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362320" y="5105520"/>
            <a:ext cx="4114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30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新建样式”对话框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186680" y="6400800"/>
            <a:ext cx="1347840" cy="3682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99"/>
                </a:solidFill>
                <a:latin typeface="Times New Roman"/>
                <a:ea typeface="宋体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3.6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467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10000"/>
              </a:lnSpc>
              <a:spcBef>
                <a:spcPts val="1726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</a:rPr>
              <a:t>创建一个新模板：</a:t>
            </a:r>
            <a:endParaRPr b="1" lang="en-US" sz="23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10000"/>
              </a:lnSpc>
              <a:spcBef>
                <a:spcPts val="1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</a:rPr>
              <a:t>）以已有模板创建新模板，单击“文件”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</a:rPr>
              <a:t>新建”命令，单击“新建”栏下的“模板”选项，然后单击“确定”按钮。</a:t>
            </a:r>
            <a:endParaRPr b="1" lang="en-US" sz="23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10000"/>
              </a:lnSpc>
              <a:spcBef>
                <a:spcPts val="1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</a:rPr>
              <a:t>）单击“文件”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</a:rPr>
              <a:t>另存为”命令，打开“另存为”对话框。</a:t>
            </a:r>
            <a:endParaRPr b="1" lang="en-US" sz="23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10000"/>
              </a:lnSpc>
              <a:spcBef>
                <a:spcPts val="1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</a:rPr>
              <a:t>）在“保存类型”列表框中选择“文档模板”。</a:t>
            </a:r>
            <a:endParaRPr b="1" lang="en-US" sz="23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10000"/>
              </a:lnSpc>
              <a:spcBef>
                <a:spcPts val="1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</a:rPr>
              <a:t>）此时在“新建”对话框的“保存位置”框中显示了模板的默认位置为“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lates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</a:rPr>
              <a:t>文件夹，若使用此位置，以后在“新建”对话框中，该模板就出现在“常用”选项卡中。</a:t>
            </a:r>
            <a:endParaRPr b="1" lang="en-US" sz="23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19460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在“文件名”框中输入新模板的名称，然后单击“保存”按钮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在新模板中添加所需的文本和图形，并删除任何不需要的内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改变页边距设置、页面大小和方向、样式及其他格式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单击“工具栏”上的“保存”按钮，然后单击“文件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关闭”命令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"/>
          <p:cNvSpPr/>
          <p:nvPr/>
        </p:nvSpPr>
        <p:spPr>
          <a:xfrm>
            <a:off x="7186680" y="6400800"/>
            <a:ext cx="1347840" cy="3682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99"/>
                </a:solidFill>
                <a:latin typeface="Times New Roman"/>
                <a:ea typeface="宋体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4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页面排版和打印文档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19460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3.4.1   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页眉、页脚和页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3.4.2   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页面设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3.4.3   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文件打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2" name="">
            <a:hlinkClick r:id="rId7" action="ppaction://hlinksldjump"/>
          </p:cNvPr>
          <p:cNvSpPr/>
          <p:nvPr/>
        </p:nvSpPr>
        <p:spPr>
          <a:xfrm>
            <a:off x="7010280" y="6365880"/>
            <a:ext cx="1282680" cy="40500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cc"/>
                </a:solidFill>
                <a:uFillTx/>
                <a:latin typeface="Times New Roman"/>
                <a:ea typeface="宋体"/>
                <a:hlinkClick r:id="rId8" action="ppaction://hlinksldjump"/>
              </a:rPr>
              <a:t>返回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.2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 2000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的特点与新特征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71946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 2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特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提供了自动更正及自动图文集功能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格式编辑非常灵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模板、向导及样式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 2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具特色的三个常用功能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表格处理操作轻而易举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可以实现文字与图形的混合编排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用户可以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 2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直接进入因特网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4.1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页眉、页脚和页码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194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建立页眉、页脚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"/>
          <p:cNvSpPr/>
          <p:nvPr/>
        </p:nvSpPr>
        <p:spPr>
          <a:xfrm>
            <a:off x="2719440" y="32576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5755" t="55289" r="25715" b="31277"/>
          <a:stretch/>
        </p:blipFill>
        <p:spPr>
          <a:xfrm>
            <a:off x="2133720" y="1905120"/>
            <a:ext cx="4800600" cy="6476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209680" y="2819520"/>
            <a:ext cx="4572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31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页眉和页脚”工具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14640" y="24480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rcRect l="23807" t="45768" r="61197" b="24016"/>
          <a:stretch/>
        </p:blipFill>
        <p:spPr>
          <a:xfrm>
            <a:off x="2895480" y="3505320"/>
            <a:ext cx="1735200" cy="25905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4818240" y="3809880"/>
            <a:ext cx="1277640" cy="213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32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插入自动图文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7194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分页与插入页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3" name=""/>
          <p:cNvSpPr/>
          <p:nvPr/>
        </p:nvSpPr>
        <p:spPr>
          <a:xfrm>
            <a:off x="3057480" y="26431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209680" y="2133720"/>
            <a:ext cx="4496040" cy="24098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438280" y="5410080"/>
            <a:ext cx="3657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33 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页码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724200" y="26002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819520" y="1143000"/>
            <a:ext cx="3200400" cy="31291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438280" y="4876920"/>
            <a:ext cx="4038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34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页码格式”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86680" y="6400800"/>
            <a:ext cx="1347840" cy="3682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99"/>
                </a:solidFill>
                <a:latin typeface="Times New Roman"/>
                <a:ea typeface="宋体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4.2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页面设置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2388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设置纸型、纸张来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版式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页边距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使用“页面设置”对话框设置页边距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使用标尺设置页边距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35~3.3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2" name=""/>
          <p:cNvSpPr/>
          <p:nvPr/>
        </p:nvSpPr>
        <p:spPr>
          <a:xfrm>
            <a:off x="2990880" y="23907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438280" y="472428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133720" y="1295280"/>
            <a:ext cx="4705200" cy="28670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905120" y="4952880"/>
            <a:ext cx="5333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35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了“纸型”选项卡的“页面设置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824200" y="22716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209680" y="1371600"/>
            <a:ext cx="4567320" cy="29862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143000" y="5105520"/>
            <a:ext cx="6781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36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了“版式”选项卡的“页面设置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3019320" y="2409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4448160" cy="27716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762120" y="4952880"/>
            <a:ext cx="7315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37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了“页边距”选项卡的“页面设置”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186680" y="6400800"/>
            <a:ext cx="1347840" cy="3682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99"/>
                </a:solidFill>
                <a:latin typeface="Times New Roman"/>
                <a:ea typeface="宋体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4.3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文件打印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19460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打印预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打印预览时编辑文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打印文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38~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3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590920" y="20527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30528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2286000" y="5181480"/>
            <a:ext cx="4572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38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打印预览”窗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705040" y="21765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762800" cy="31953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2743200" y="5105520"/>
            <a:ext cx="3581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39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打印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186680" y="6400800"/>
            <a:ext cx="1347840" cy="3682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99"/>
                </a:solidFill>
                <a:latin typeface="Times New Roman"/>
                <a:ea typeface="宋体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19460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 2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新特征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浮动表格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复制、剪贴、粘贴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即点即输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图片项目符号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中文简体字与繁体字转换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打印缩放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" name="">
            <a:hlinkClick r:id="rId1" action="ppaction://hlinksldjump"/>
          </p:cNvPr>
          <p:cNvSpPr/>
          <p:nvPr/>
        </p:nvSpPr>
        <p:spPr>
          <a:xfrm>
            <a:off x="7186680" y="6400800"/>
            <a:ext cx="1347840" cy="4050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cc"/>
                </a:solidFill>
                <a:uFillTx/>
                <a:latin typeface="Times New Roman"/>
                <a:ea typeface="宋体"/>
                <a:hlinkClick r:id="rId2" action="ppaction://hlinksldjump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5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图文混排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19460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1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3.5.1   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插入图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1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3.5.2   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绘制图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1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3.5.3   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插入艺术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1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3.5.4   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8" action="ppaction://hlinksldjump"/>
              </a:rPr>
              <a:t>公式编辑器的使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1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3.5.5   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10" action="ppaction://hlinksldjump"/>
              </a:rPr>
              <a:t>图文框和文本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1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11" action="ppaction://hlinksldjump"/>
              </a:rPr>
              <a:t>3.5.6   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12" action="ppaction://hlinksldjump"/>
              </a:rPr>
              <a:t>制作水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5" name="">
            <a:hlinkClick r:id="rId13" action="ppaction://hlinksldjump"/>
          </p:cNvPr>
          <p:cNvSpPr/>
          <p:nvPr/>
        </p:nvSpPr>
        <p:spPr>
          <a:xfrm>
            <a:off x="7010280" y="6365880"/>
            <a:ext cx="1282680" cy="40500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cc"/>
                </a:solidFill>
                <a:uFillTx/>
                <a:latin typeface="Times New Roman"/>
                <a:ea typeface="宋体"/>
                <a:hlinkClick r:id="rId14" action="ppaction://hlinksldjump"/>
              </a:rPr>
              <a:t>返回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5.1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插入图片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19460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插入剪贴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4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4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插入图形文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4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插入扫描的图片或来自数字相机拍摄的照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用图片工具栏编辑图片（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43~3.4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543040" y="19191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4771800" cy="32623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2133720" y="5257800"/>
            <a:ext cx="4724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40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插入剪贴画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062160" y="23194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rcRect l="20264" t="17717" r="20522" b="23868"/>
          <a:stretch/>
        </p:blipFill>
        <p:spPr>
          <a:xfrm>
            <a:off x="2362320" y="1523880"/>
            <a:ext cx="4329000" cy="30146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981080" y="5257800"/>
            <a:ext cx="510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41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图片及出现的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786040" y="22431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133720" y="1295280"/>
            <a:ext cx="4757760" cy="29386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2362320" y="5105520"/>
            <a:ext cx="4495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42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插入图片”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328920" y="32479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rcRect l="15531" t="28757" r="47279" b="63540"/>
          <a:stretch/>
        </p:blipFill>
        <p:spPr>
          <a:xfrm>
            <a:off x="2438280" y="838080"/>
            <a:ext cx="4114800" cy="8953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2514600" y="2057400"/>
            <a:ext cx="3886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43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片”工具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57480" y="26384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rcRect l="46296" t="38410" r="38700" b="29016"/>
          <a:stretch/>
        </p:blipFill>
        <p:spPr>
          <a:xfrm>
            <a:off x="1981080" y="2666880"/>
            <a:ext cx="1940040" cy="24955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447920" y="5791320"/>
            <a:ext cx="3047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44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线型”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05440" y="29242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3"/>
          <a:srcRect l="48463" t="38927" r="37980" b="41585"/>
          <a:stretch/>
        </p:blipFill>
        <p:spPr>
          <a:xfrm>
            <a:off x="5334120" y="2895480"/>
            <a:ext cx="1779480" cy="19242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4572000" y="5257800"/>
            <a:ext cx="3581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45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文字环绕”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209760" y="23670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2514600" y="1447920"/>
            <a:ext cx="3952800" cy="30826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2133720" y="5105520"/>
            <a:ext cx="4800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46 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置图片格式“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186680" y="6400800"/>
            <a:ext cx="1347840" cy="3682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99"/>
                </a:solidFill>
                <a:latin typeface="Times New Roman"/>
                <a:ea typeface="宋体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5.2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绘制图形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1" name=""/>
          <p:cNvSpPr/>
          <p:nvPr/>
        </p:nvSpPr>
        <p:spPr>
          <a:xfrm>
            <a:off x="2138400" y="3309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1350" t="80236" r="8436" b="8067"/>
          <a:stretch/>
        </p:blipFill>
        <p:spPr>
          <a:xfrm>
            <a:off x="1447920" y="2362320"/>
            <a:ext cx="6014880" cy="6523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057400" y="4038480"/>
            <a:ext cx="4267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47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绘图”工具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1946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3000"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19460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图形的绘制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用“直线”按钮画线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用“箭头”按钮画箭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用“矩形”按钮画矩形或正方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用“椭圆”按钮画椭圆或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用“自选图形”按钮绘制所需图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71946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6532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编辑图形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65320" indent="-265320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改变图形大小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65320" indent="-265320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移动图形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65320" indent="-265320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旋转或翻转图形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65320" indent="-265320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合图形图形叠放次序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65320" indent="-265320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置图形格式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65320" indent="-265320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形的对齐和排列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65320" indent="-265320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删除图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9" name=""/>
          <p:cNvSpPr/>
          <p:nvPr/>
        </p:nvSpPr>
        <p:spPr>
          <a:xfrm>
            <a:off x="7186680" y="6400800"/>
            <a:ext cx="1347840" cy="3682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99"/>
                </a:solidFill>
                <a:latin typeface="Times New Roman"/>
                <a:ea typeface="宋体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.3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 2000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启动与退出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194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 200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启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" name=""/>
          <p:cNvSpPr/>
          <p:nvPr/>
        </p:nvSpPr>
        <p:spPr>
          <a:xfrm>
            <a:off x="3105000" y="24145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0" t="65162" r="58727" b="-536"/>
          <a:stretch/>
        </p:blipFill>
        <p:spPr>
          <a:xfrm>
            <a:off x="1752480" y="2209680"/>
            <a:ext cx="4515120" cy="2386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447920" y="5029200"/>
            <a:ext cx="5257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1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“开始”菜单启动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ord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5.3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插入艺术字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689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插入艺术字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2" name=""/>
          <p:cNvSpPr/>
          <p:nvPr/>
        </p:nvSpPr>
        <p:spPr>
          <a:xfrm>
            <a:off x="3419640" y="24004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819520" y="1676520"/>
            <a:ext cx="3657600" cy="30099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2666880" y="5181480"/>
            <a:ext cx="3962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48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艺术字库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685440" y="761760"/>
            <a:ext cx="7194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编辑艺术字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6" name=""/>
          <p:cNvSpPr/>
          <p:nvPr/>
        </p:nvSpPr>
        <p:spPr>
          <a:xfrm>
            <a:off x="3605040" y="28004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3200400" cy="19432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57200" y="3962520"/>
            <a:ext cx="4648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49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编辑艺术字文字”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14800" y="25909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rcRect l="40490" t="44455" r="40343" b="29769"/>
          <a:stretch/>
        </p:blipFill>
        <p:spPr>
          <a:xfrm>
            <a:off x="5181480" y="2362320"/>
            <a:ext cx="2362320" cy="23000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2895480" y="5029200"/>
            <a:ext cx="5257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50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艺术字、绘制的“圆”、自选图形“”组合的印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186680" y="6400800"/>
            <a:ext cx="1347840" cy="3682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99"/>
                </a:solidFill>
                <a:latin typeface="Times New Roman"/>
                <a:ea typeface="宋体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5.4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公式编辑器的使用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040" y="1350720"/>
            <a:ext cx="71946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10000"/>
              </a:lnSpc>
              <a:spcBef>
                <a:spcPts val="165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输入数学公式的步骤如下：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1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）在要输入数学公式的位置，单击鼠标插入点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1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）单击“插入”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对象”命令，打开“对象”对话框（如图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51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所示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1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）单击“新建”选项卡，在“对象类型”框中选择“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公式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0”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选项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1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）单击“确定”，显示“公式”工具栏（如图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5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所示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1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）从“工具栏”上选择所需符号、样板构造公式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1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）单击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文档可返回到编辑状态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352680" y="17524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2438280" y="1371600"/>
            <a:ext cx="4381560" cy="31860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2286000" y="5181480"/>
            <a:ext cx="4495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51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象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2647800" y="31575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rcRect l="5596" t="38658" r="21479" b="46007"/>
          <a:stretch/>
        </p:blipFill>
        <p:spPr>
          <a:xfrm>
            <a:off x="1371600" y="2590920"/>
            <a:ext cx="6400800" cy="107784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2362320" y="4343400"/>
            <a:ext cx="4038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52 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式”工具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186680" y="6400800"/>
            <a:ext cx="1347840" cy="3682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99"/>
                </a:solidFill>
                <a:latin typeface="Times New Roman"/>
                <a:ea typeface="宋体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5.5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图文框和文本框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19460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建立文本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建立文本框可采用两种方法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插入空文本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把现有的内容纳入文本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编辑文本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在文本框间创建链接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断开文本框间的链接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914040" y="1371240"/>
            <a:ext cx="719460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文本框与图文框的区别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本框包含了图文框的优点，还新添了图文框没有的特点：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在文本框间可创建链接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可创建包含文字的水印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可将文本框分组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可改变文本框中的文字方向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19460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可选择更多的文字环绕方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可设置文本框格式，如可设置阴影、三维效果、边框的类型和颜色、填充色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多个文本框可进行“组合”、“叠放次序”等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文本框的内容可通过调整文本框大小来显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7" name=""/>
          <p:cNvSpPr/>
          <p:nvPr/>
        </p:nvSpPr>
        <p:spPr>
          <a:xfrm>
            <a:off x="7186680" y="6400800"/>
            <a:ext cx="1347840" cy="3682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99"/>
                </a:solidFill>
                <a:latin typeface="Times New Roman"/>
                <a:ea typeface="宋体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5.6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制作水印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739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单击“视图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眉和页脚”命令，将弹出“页眉和页脚”工具栏（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3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示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单击“页眉和页脚”工具栏的“显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隐藏文档文字”命令按钮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就会将文档中的文字和图形等隐藏起来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单击“插入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本框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横排”或“竖排”命令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拖动鼠标在文档中插入一个文本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在文本框内输入作为水印的文字或插入图形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单击“页眉和页脚”工具栏上的“关闭”按钮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0" name=""/>
          <p:cNvSpPr/>
          <p:nvPr/>
        </p:nvSpPr>
        <p:spPr>
          <a:xfrm>
            <a:off x="7186680" y="6400800"/>
            <a:ext cx="1347840" cy="3682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99"/>
                </a:solidFill>
                <a:latin typeface="Times New Roman"/>
                <a:ea typeface="宋体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6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表格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19460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3.6.1   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创建表格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3.6.2   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编辑表格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3.6.3   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表格操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3" name="">
            <a:hlinkClick r:id="rId7" action="ppaction://hlinksldjump"/>
          </p:cNvPr>
          <p:cNvSpPr/>
          <p:nvPr/>
        </p:nvSpPr>
        <p:spPr>
          <a:xfrm>
            <a:off x="7010280" y="6365880"/>
            <a:ext cx="1282680" cy="40500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cc"/>
                </a:solidFill>
                <a:uFillTx/>
                <a:latin typeface="Times New Roman"/>
                <a:ea typeface="宋体"/>
                <a:hlinkClick r:id="rId8" action="ppaction://hlinksldjump"/>
              </a:rPr>
              <a:t>返回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104920" y="24717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6505560" cy="2523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676520" y="5029200"/>
            <a:ext cx="46479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2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ord 200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窗口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6.1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创建表格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19460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创建表格常见的三种方法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使用“插入表格”按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使用“插入表格”命令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5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“绘制表格”工具绘制表格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5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476520" y="23907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2209680" y="1066680"/>
            <a:ext cx="3505320" cy="297180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"/>
          <a:srcRect l="17163" t="46025" r="18086" b="47650"/>
          <a:stretch/>
        </p:blipFill>
        <p:spPr>
          <a:xfrm>
            <a:off x="990720" y="4800600"/>
            <a:ext cx="6553080" cy="6746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2286000" y="5791320"/>
            <a:ext cx="4114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54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格和边框”工具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022440" y="685800"/>
            <a:ext cx="911880" cy="380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53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插入表格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62920" y="6491160"/>
            <a:ext cx="1347840" cy="3682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99"/>
                </a:solidFill>
                <a:latin typeface="Times New Roman"/>
                <a:ea typeface="宋体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6.2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编辑表格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19460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输入表格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表格中的选定操作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插入行、列、单元格（如图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5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示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删除行、列、单元格（如图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5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示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拆分单元格与合并单元格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335" name=""/>
          <p:cNvSpPr/>
          <p:nvPr/>
        </p:nvSpPr>
        <p:spPr>
          <a:xfrm>
            <a:off x="3657600" y="24051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2895480" cy="28101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304920" y="4800600"/>
            <a:ext cx="3886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55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格属性”对话框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62280" y="26766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5029200" y="1752480"/>
            <a:ext cx="2666880" cy="22068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4572000" y="4724280"/>
            <a:ext cx="3657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56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格选项”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3681360" y="30528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3352680" cy="1416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533520" y="3505320"/>
            <a:ext cx="4343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57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插入单元格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681360" y="30337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4724280" y="3048120"/>
            <a:ext cx="2819520" cy="125100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3276720" y="4952880"/>
            <a:ext cx="4952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58 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删除单元格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881520" y="29242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2666880" y="1981080"/>
            <a:ext cx="3733920" cy="20764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2514600" y="4876920"/>
            <a:ext cx="4191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59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拆分单元格”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652920" y="26859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19460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调整表格的列宽和行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表格的移动与缩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框线和底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文本与表格的转换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表格中文本的对齐方式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表格与文本的对齐方式及环绕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3843360" y="28861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2514600" cy="1873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4800600" y="3352680"/>
            <a:ext cx="34290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61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将表格转换成文字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676520" y="4724280"/>
            <a:ext cx="25905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914400" y="5257800"/>
            <a:ext cx="5029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60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将文字转换成表格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652920" y="26859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990720" y="1828800"/>
            <a:ext cx="3581280" cy="289404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7162920" y="6491160"/>
            <a:ext cx="1347840" cy="3682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99"/>
                </a:solidFill>
                <a:latin typeface="Times New Roman"/>
                <a:ea typeface="宋体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6.3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表格操作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19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排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3" name=""/>
          <p:cNvSpPr/>
          <p:nvPr/>
        </p:nvSpPr>
        <p:spPr>
          <a:xfrm>
            <a:off x="3133800" y="24955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2828880" y="1828800"/>
            <a:ext cx="3952800" cy="256536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1447920" y="5029200"/>
            <a:ext cx="6400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62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排序”对话框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62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排序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719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表格的计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8" name=""/>
          <p:cNvSpPr/>
          <p:nvPr/>
        </p:nvSpPr>
        <p:spPr>
          <a:xfrm>
            <a:off x="3633840" y="27907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3962160" cy="269568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3048120" y="5181480"/>
            <a:ext cx="3886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63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式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162920" y="6491160"/>
            <a:ext cx="1347840" cy="3682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99"/>
                </a:solidFill>
                <a:latin typeface="Times New Roman"/>
                <a:ea typeface="宋体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19460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 200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退出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单击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 200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窗口右上角的“关闭”       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双击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 200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窗口标题栏上的控制菜单图标               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单击“文件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|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退出”命令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使用键盘组合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t+F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5" name=""/>
          <p:cNvSpPr/>
          <p:nvPr/>
        </p:nvSpPr>
        <p:spPr>
          <a:xfrm>
            <a:off x="4491000" y="33480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98110" t="0" r="0" b="97397"/>
          <a:stretch/>
        </p:blipFill>
        <p:spPr>
          <a:xfrm>
            <a:off x="6858000" y="2133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495680" y="33577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0" t="0" r="97852" b="97495"/>
          <a:stretch/>
        </p:blipFill>
        <p:spPr>
          <a:xfrm>
            <a:off x="1600200" y="3219480"/>
            <a:ext cx="304920" cy="28584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rId3" action="ppaction://hlinksldjump"/>
          </p:cNvPr>
          <p:cNvSpPr/>
          <p:nvPr/>
        </p:nvSpPr>
        <p:spPr>
          <a:xfrm>
            <a:off x="7186680" y="6400800"/>
            <a:ext cx="1347840" cy="4050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cc"/>
                </a:solidFill>
                <a:uFillTx/>
                <a:latin typeface="Times New Roman"/>
                <a:ea typeface="宋体"/>
                <a:hlinkClick r:id="rId4" action="ppaction://hlinksldjump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7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邮件合并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19460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3.7.1   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创建主文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3.7.2   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打开或创建数据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3.7.3   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插入合并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3.7.4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8" action="ppaction://hlinksldjump"/>
              </a:rPr>
              <a:t>   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合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4" name="">
            <a:hlinkClick r:id="rId10" action="ppaction://hlinksldjump"/>
          </p:cNvPr>
          <p:cNvSpPr/>
          <p:nvPr/>
        </p:nvSpPr>
        <p:spPr>
          <a:xfrm>
            <a:off x="7010280" y="6365880"/>
            <a:ext cx="1282680" cy="40500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cc"/>
                </a:solidFill>
                <a:uFillTx/>
                <a:latin typeface="Times New Roman"/>
                <a:ea typeface="宋体"/>
                <a:hlinkClick r:id="rId11" action="ppaction://hlinksldjump"/>
              </a:rPr>
              <a:t>返回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7.1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创建主文档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19460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1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创建主文档的操作步骤如下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单击“常用”工具栏中的“新建空白文档”命令按钮，或打开一个已有文档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单击“工具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邮件合并”命令，将打开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6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的“邮件合并帮助器”对话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单击“主文档”选项下的“创建”按钮，将显示主文档的类型选项供用户选择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3319560" y="23004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2895480" y="1371600"/>
            <a:ext cx="3614760" cy="288144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2438280" y="5257800"/>
            <a:ext cx="4648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66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邮件合并帮助器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162920" y="6400800"/>
            <a:ext cx="1347840" cy="3682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99"/>
                </a:solidFill>
                <a:latin typeface="Times New Roman"/>
                <a:ea typeface="宋体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7.2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打开或创建数据源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7270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1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）在“邮件合并帮助器”对话框中单击数据源下的“获取数据”按钮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1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）单击“建立数据源”命令，打开如图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67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所示的“创建数据源”对话框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1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在“域名行中的域名”列表框中预定义了许多域名。单击“添加或删除域名”按钮。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1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）单击“确定”按钮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将显示“保存数据源”对话框，用户输入保存该数据源的位置和名称后单击“确定”按钮，如图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68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1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）在“数据表单”中输入各条记录的数据，全部输完后，单击“确定”按钮。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252960" y="26049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3048120" y="1828800"/>
            <a:ext cx="3681360" cy="24242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2666880" y="4952880"/>
            <a:ext cx="4496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67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创建数据源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228840" y="27385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2438280" y="2133720"/>
            <a:ext cx="4314960" cy="198576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2362320" y="4876920"/>
            <a:ext cx="4495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68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表单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162920" y="6400800"/>
            <a:ext cx="1347840" cy="3682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99"/>
                </a:solidFill>
                <a:latin typeface="Times New Roman"/>
                <a:ea typeface="宋体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7.3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插入合并域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19460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单击“邮件合并帮助器”对话框中“主文档”下的“编辑”按钮，回到主文档的编辑状态，此时，窗口中还将显示一个新的工具栏——“邮件合并”工具栏（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6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示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在主文档中输入或编辑不变的公用部分的文本内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在需要插入合并域的位置设置插入点，单击“邮件合并”工具栏上的“插入合并域”下拉按钮，在显示的“合并域”中单击所需插入的域名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"/>
          <p:cNvGrpSpPr/>
          <p:nvPr/>
        </p:nvGrpSpPr>
        <p:grpSpPr>
          <a:xfrm>
            <a:off x="533520" y="1447920"/>
            <a:ext cx="8076240" cy="3504240"/>
            <a:chOff x="533520" y="1447920"/>
            <a:chExt cx="8076240" cy="3504240"/>
          </a:xfrm>
        </p:grpSpPr>
        <p:grpSp>
          <p:nvGrpSpPr>
            <p:cNvPr id="393" name=""/>
            <p:cNvGrpSpPr/>
            <p:nvPr/>
          </p:nvGrpSpPr>
          <p:grpSpPr>
            <a:xfrm>
              <a:off x="542880" y="1459440"/>
              <a:ext cx="8056080" cy="3480480"/>
              <a:chOff x="542880" y="1459440"/>
              <a:chExt cx="8056080" cy="3480480"/>
            </a:xfrm>
          </p:grpSpPr>
          <p:sp>
            <p:nvSpPr>
              <p:cNvPr id="394" name=""/>
              <p:cNvSpPr/>
              <p:nvPr/>
            </p:nvSpPr>
            <p:spPr>
              <a:xfrm>
                <a:off x="679680" y="1459440"/>
                <a:ext cx="7782840" cy="3480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8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                         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　　　         录取通知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《姓名》同学：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你已被录取到我校《系》系《专业》专业，请你于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2000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年《报到日期》携带本通知书来校报到。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                                                          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XX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大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                                                           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2000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年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8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月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12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日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42880" y="1459440"/>
                <a:ext cx="8056080" cy="3480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  <a:effectLst>
                <a:outerShdw dist="17819" dir="2700000" blurRad="0" rotWithShape="0">
                  <a:srgbClr val="008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6" name=""/>
            <p:cNvSpPr/>
            <p:nvPr/>
          </p:nvSpPr>
          <p:spPr>
            <a:xfrm>
              <a:off x="533520" y="1447920"/>
              <a:ext cx="8076240" cy="35042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  <a:effectLst>
              <a:outerShdw dist="17819" dir="2700000" blurRad="0" rotWithShape="0">
                <a:srgbClr val="0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2438280" y="5638680"/>
            <a:ext cx="5029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70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插入合并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62920" y="6400800"/>
            <a:ext cx="1347840" cy="3682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99"/>
                </a:solidFill>
                <a:latin typeface="Times New Roman"/>
                <a:ea typeface="宋体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7.4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合并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19460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在“邮件合并帮助器”对话框中单击“合并数据和文档”下的“合并”按钮，打开“合并”对话框，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7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在“合并”对话框中的“合并到”下拉列表框中有三个选项“新建文档”、“打印机”、“电子邮件”，根据需要选择其中一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在“要合并的记录”选项中设置要合并的记录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单击“合并”按钮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2695680" y="26002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0" y="2362320"/>
            <a:ext cx="4848120" cy="214128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2590920" y="5257800"/>
            <a:ext cx="4038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71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并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914040" y="1371240"/>
            <a:ext cx="719460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5" name=""/>
          <p:cNvSpPr/>
          <p:nvPr/>
        </p:nvSpPr>
        <p:spPr>
          <a:xfrm>
            <a:off x="7162920" y="6400800"/>
            <a:ext cx="1347840" cy="3682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99"/>
                </a:solidFill>
                <a:latin typeface="Times New Roman"/>
                <a:ea typeface="宋体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6T00:46:52Z</dcterms:created>
  <dc:creator>Andy Sweet</dc:creator>
  <dc:description/>
  <dc:language>en-US</dc:language>
  <cp:lastModifiedBy>ya6</cp:lastModifiedBy>
  <dcterms:modified xsi:type="dcterms:W3CDTF">2003-02-28T10:21:24Z</dcterms:modified>
  <cp:revision>122</cp:revision>
  <dc:subject/>
  <dc:title>Module 7: Designing a Multiple Domain Structure</dc:title>
</cp:coreProperties>
</file>